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1C5-8FDC-44A5-B730-E5754385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591-0908-4BE1-BA58-702FEFB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B76-80D3-45AA-A223-1CEA164F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C0B-C77A-4479-9EE2-757E1AC8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F7C8-ABA7-482D-B266-02CC6902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3F62-A27E-45A7-A1C9-F6F7CBB8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E071-E50C-4F54-B360-4F32E706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1AFB-A94F-49E1-A0A5-EDED3D3F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858F-C936-47D9-A9C0-7C018A3D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B3E2-6470-466D-94EA-B3C1B7D7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6DF-09D2-4C52-8EA9-ED9DBA25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F0A-F98F-43EB-A2D5-B38D1DA8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EDD7-3CEF-4085-91D4-A5F8FEB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D7EC-B7FD-4D77-8D42-96AE225E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B37F-49DC-41C1-89BB-68D28FEC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149A-47C1-432D-B285-9F75B364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8759-BD15-498B-8498-5470B511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099B-D200-44F4-A04A-AECB23FF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C76E-B6DA-4401-A25B-CEF7B84F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F50D-B70B-49A5-9327-8AD82522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783B-828C-493A-ABAA-E1001DBC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B2F4-F98F-4D0C-87AA-9439E67B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456-3EE6-4BF8-B6E1-74445FEC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DB70-F937-4A91-8DF0-B7D0CEAC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A024-E2EB-4C20-BB8F-1730D61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1045-EC40-47D3-B2C0-F6826F4E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E754-E492-4DB3-A1BB-2626E30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943D-5D92-49C4-B85A-7F9B7EDB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D199-8E48-415C-9671-BD349F7E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FC10-3692-4509-B1F3-1318DDE9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5087-8B7A-474C-857A-0AEED12C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3EAFC-4892-46CF-AC7B-55C69C28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CCF0-598D-4BDF-B457-3918C6DB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0F8-50E3-4051-B80F-EAE8723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99E9-F7C0-487C-932A-2851353A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63CC-F9A1-4962-90E8-F5A8887A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202C-75F9-440F-855E-9F7093FD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8756-F420-46FA-B70A-EA40F44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50B4-902C-43F4-9560-4ACA725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9138-C849-4CCF-A3B1-1D9907A0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32C32-5689-47A4-8A95-6187FB1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5EA9-6233-4F25-9738-A0C56E17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6DD7-181B-4279-AAFA-F187FBC4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61E1-7EE9-47D6-B06E-975A56F1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078-ADEF-47F0-83AC-3F3AA851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8417-0D0C-4DA0-A55F-4BB41796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225B-2623-47DD-A18B-7E17C996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0E163-63E0-4214-9DE6-6A6D01AE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BBA7-7758-4693-92FA-350A9D46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B16E-8E90-4086-815D-8CF2C00A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1E7F9-5D3E-4E8A-AA0A-2068A64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D2F64-1BB7-4D3E-8E33-5613FA03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A338-7F63-490B-91FC-9F7FB9D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5FD2-1C80-4E2D-84FF-12CD59D5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FCD4A-9CDB-4BF8-AF84-C86E56CA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F16-010A-403E-B084-2415E0E2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1E3C-241C-43B0-ABBD-D5AF1F38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FE5-CE12-459B-A9F8-AD97D674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E44-5326-429E-92D5-2DD98F9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188-E020-408D-9B73-09502A7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E94-48BE-45CE-A858-D580995573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FDF5-3176-4650-8A50-E048FAE5744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55E-CA22-4A4F-A9D4-8E39ED60A5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0B37-FD0D-4540-BF56-531C345778F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3f3f"/>
            </a:gs>
            <a:gs pos="100000">
              <a:srgbClr val="79717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5dc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225D-0FDC-4E72-97A2-24D4CB394C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e5dc"/>
                </a:solidFill>
                <a:latin typeface="Perpetua"/>
              </a:rPr>
              <a:t>Module Created 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e5dc"/>
                </a:solidFill>
                <a:latin typeface="Perpetua"/>
              </a:rPr>
              <a:t>b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e5dc"/>
                </a:solidFill>
                <a:latin typeface="Perpetua"/>
              </a:rPr>
              <a:t>Shameka L. Montgomery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FLIP your Classroom” with Pocket Video Cameras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pic>
        <p:nvPicPr>
          <p:cNvPr id="230" name="Picture 4" descr="tieicon.jpg"/>
          <p:cNvPicPr/>
          <p:nvPr/>
        </p:nvPicPr>
        <p:blipFill>
          <a:blip r:embed="rId1"/>
          <a:stretch/>
        </p:blipFill>
        <p:spPr>
          <a:xfrm>
            <a:off x="3124080" y="4114800"/>
            <a:ext cx="23623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5dc"/>
                </a:solidFill>
                <a:latin typeface="Franklin Gothic Book"/>
              </a:rPr>
              <a:t>What’s the Buzz???</a:t>
            </a:r>
            <a:endParaRPr b="0" lang="en-US" sz="28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erpetua"/>
              </a:rPr>
              <a:t>Celebrities, Reporters, Kids, Teachers……Everyone is hooked</a:t>
            </a:r>
            <a:endParaRPr b="0" lang="en-US" sz="16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33" name="Picture 8" descr="flip-camera.jpg"/>
          <p:cNvPicPr/>
          <p:nvPr/>
        </p:nvPicPr>
        <p:blipFill>
          <a:blip r:embed="rId1"/>
          <a:stretch/>
        </p:blipFill>
        <p:spPr>
          <a:xfrm>
            <a:off x="7162920" y="4952880"/>
            <a:ext cx="1523880" cy="1739880"/>
          </a:xfrm>
          <a:prstGeom prst="rect">
            <a:avLst/>
          </a:prstGeom>
          <a:ln w="0">
            <a:noFill/>
          </a:ln>
        </p:spPr>
      </p:pic>
      <p:pic>
        <p:nvPicPr>
          <p:cNvPr id="234" name="What's the Buzz.wmv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Attributes of Pocket Video Cameras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1981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Easy to operate, durable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Small enough to fit in your pocket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Cost under $200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Records at least 60 minutes of digital video footage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Easy to download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Has software available for editing and sharing video footage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Flip-out USB plug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Removable AA batteries</a:t>
            </a: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erpetua"/>
            </a:endParaRPr>
          </a:p>
        </p:txBody>
      </p:sp>
      <p:pic>
        <p:nvPicPr>
          <p:cNvPr id="237" name="Picture 4" descr="flip-camera.jpg"/>
          <p:cNvPicPr/>
          <p:nvPr/>
        </p:nvPicPr>
        <p:blipFill>
          <a:blip r:embed="rId1"/>
          <a:stretch/>
        </p:blipFill>
        <p:spPr>
          <a:xfrm>
            <a:off x="3962520" y="1371600"/>
            <a:ext cx="1879560" cy="2146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Kodak-Zi8-Pocket-Video-Camera-black1.jpg"/>
          <p:cNvPicPr/>
          <p:nvPr/>
        </p:nvPicPr>
        <p:blipFill>
          <a:blip r:embed="rId2"/>
          <a:stretch/>
        </p:blipFill>
        <p:spPr>
          <a:xfrm>
            <a:off x="2895480" y="3581280"/>
            <a:ext cx="2455920" cy="2667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rca-small-wonder-camcorders.jpg"/>
          <p:cNvPicPr/>
          <p:nvPr/>
        </p:nvPicPr>
        <p:blipFill>
          <a:blip r:embed="rId3"/>
          <a:stretch/>
        </p:blipFill>
        <p:spPr>
          <a:xfrm>
            <a:off x="5943600" y="3581280"/>
            <a:ext cx="2514600" cy="2714760"/>
          </a:xfrm>
          <a:prstGeom prst="rect">
            <a:avLst/>
          </a:prstGeom>
          <a:ln w="0">
            <a:noFill/>
          </a:ln>
        </p:spPr>
      </p:pic>
      <p:sp>
        <p:nvSpPr>
          <p:cNvPr id="240" name="Left Arrow 7"/>
          <p:cNvSpPr/>
          <p:nvPr/>
        </p:nvSpPr>
        <p:spPr>
          <a:xfrm>
            <a:off x="5867280" y="2209680"/>
            <a:ext cx="685800" cy="38124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6629400" y="21337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Most Popul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e5dc"/>
                </a:solidFill>
                <a:latin typeface="Franklin Gothic Book"/>
              </a:rPr>
              <a:t>Advantages of the Camera in the Classroom</a:t>
            </a:r>
            <a:endParaRPr b="0" lang="en-US" sz="36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reative outlet for student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tudents can express themselves by creating projects, ads, movies, trailers, etc…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Liven up a classroom and make learning accessible to students in a fun and creative way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Great for use across all subject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Franklin Gothic Book"/>
              </a:rPr>
              <a:t>Ideas for the Classroom</a:t>
            </a:r>
            <a:endParaRPr b="0" lang="en-US" sz="40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lip Camera--Uses in the Classroom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trategies for Increasing Student Achievement with a Flip Camera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43 Interesting Ways* to use your Pocket Video Camera in the Classroom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Best Resources Sites for Using Flip Cameras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46:54Z</dcterms:created>
  <dc:creator>shameka.montgomery</dc:creator>
  <dc:description/>
  <dc:language>en-US</dc:language>
  <cp:lastModifiedBy>Customer</cp:lastModifiedBy>
  <dcterms:modified xsi:type="dcterms:W3CDTF">2010-06-28T20:20:29Z</dcterms:modified>
  <cp:revision>41</cp:revision>
  <dc:subject/>
  <dc:title>“FLIP your Classroom” with Pocket Video Cameras</dc:title>
</cp:coreProperties>
</file>